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0F8BD-6322-4951-8D13-F58F2A56A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D2F82-7D17-4F6A-9593-30DE559C3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2A145-4169-4F3F-A379-F338D4548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62D4A-F974-4EE3-96F0-EA9D994D0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9CF00-24B9-4B64-8352-5B9442FC1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42838-EB00-4FC0-87D0-921C56595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477A0-7C60-4BB9-AD85-A2D8C2D27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AD3AC-021C-4168-879D-9C58613A2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9DB01-FBF4-4AAE-8A25-E9101EB41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32588-EA1F-433C-8875-74562CCFF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75BC2-B9BE-47A2-A56A-2BE1E471D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72D06-EA26-471A-A2AB-002077158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e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301A0-A15A-4C3B-9BBE-26EF21D03303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e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16000" y="3860640"/>
            <a:ext cx="748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نسب المالية الشائعة الاستخدا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535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فصل الخامس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06483-D3B1-4150-8A76-2D5F85105375}" type="slidenum">
              <a:t>1</a:t>
            </a:fld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e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6973920" y="1916280"/>
            <a:ext cx="358920" cy="1728720"/>
          </a:xfrm>
          <a:prstGeom prst="upDownArrow">
            <a:avLst>
              <a:gd name="adj1" fmla="val 50000"/>
              <a:gd name="adj2" fmla="val 95883"/>
            </a:avLst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79280" y="2276640"/>
            <a:ext cx="8713800" cy="0"/>
          </a:xfrm>
          <a:prstGeom prst="line">
            <a:avLst/>
          </a:prstGeom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506920" y="3679920"/>
            <a:ext cx="3097440" cy="625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ربحية السهم العاد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11280" y="3139920"/>
            <a:ext cx="4038480" cy="17290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ct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صافي الربح – توزيعات الأسهم الممتاز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متوسط المرجح لعدد الاسهم العاد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788000" y="3822840"/>
            <a:ext cx="59508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974880" y="4076640"/>
            <a:ext cx="3381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867280" y="1925640"/>
            <a:ext cx="2665440" cy="673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50000">
                <a:srgbClr val="ccccff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 الربح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859280" y="260280"/>
            <a:ext cx="397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خامس: </a:t>
            </a:r>
            <a:r>
              <a:rPr b="1" lang="ar-SA" sz="1800" spc="-1" strike="noStrike">
                <a:solidFill>
                  <a:srgbClr val="660033"/>
                </a:solidFill>
                <a:latin typeface="Times New Roman"/>
                <a:cs typeface="Andalus"/>
              </a:rPr>
              <a:t>النسب المالية شائعة الاستخدا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101FA-02DD-4052-8D02-E2A2C4773F05}" type="slidenum">
              <a:t>10</a:t>
            </a:fld>
          </a:p>
        </p:txBody>
      </p:sp>
    </p:spTree>
  </p:cSld>
  <p:transition>
    <p:random/>
  </p:transition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e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6973920" y="2133720"/>
            <a:ext cx="358920" cy="2663640"/>
          </a:xfrm>
          <a:prstGeom prst="upDownArrow">
            <a:avLst>
              <a:gd name="adj1" fmla="val 50000"/>
              <a:gd name="adj2" fmla="val 147738"/>
            </a:avLst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580000" y="1447920"/>
            <a:ext cx="3024360" cy="625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ة صافي الربح إلى الفوائد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11280" y="907920"/>
            <a:ext cx="4038480" cy="17290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 rtl="1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صافي الربح قبل الفوائد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فوائد المستحقة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79280" y="3429000"/>
            <a:ext cx="8713800" cy="0"/>
          </a:xfrm>
          <a:prstGeom prst="line">
            <a:avLst/>
          </a:prstGeom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258920" y="1839960"/>
            <a:ext cx="2806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788000" y="1590840"/>
            <a:ext cx="59508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506920" y="4832280"/>
            <a:ext cx="3097440" cy="625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ة مجموع الخصوم إلى    مجموع الأصول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11280" y="4292640"/>
            <a:ext cx="4038480" cy="1728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إجمالي الخصوم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إجمالي الأصول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788000" y="4975200"/>
            <a:ext cx="59508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1258920" y="5195880"/>
            <a:ext cx="2806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867280" y="3078000"/>
            <a:ext cx="2665440" cy="673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50000">
                <a:srgbClr val="ccccff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 القدرة على سداد الديون طويلة الأجل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859280" y="260280"/>
            <a:ext cx="397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خامس: </a:t>
            </a:r>
            <a:r>
              <a:rPr b="1" lang="ar-SA" sz="1800" spc="-1" strike="noStrike">
                <a:solidFill>
                  <a:srgbClr val="660033"/>
                </a:solidFill>
                <a:latin typeface="Times New Roman"/>
                <a:cs typeface="Andalus"/>
              </a:rPr>
              <a:t>النسب المالية شائعة الاستخدا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29CD7-4A31-4E12-8439-4977B8DCE9EB}" type="slidenum">
              <a:t>11</a:t>
            </a:fld>
          </a:p>
        </p:txBody>
      </p:sp>
    </p:spTree>
  </p:cSld>
  <p:transition>
    <p:random/>
  </p:transition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e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6973920" y="2133720"/>
            <a:ext cx="358920" cy="2663640"/>
          </a:xfrm>
          <a:prstGeom prst="upDownArrow">
            <a:avLst>
              <a:gd name="adj1" fmla="val 50000"/>
              <a:gd name="adj2" fmla="val 147738"/>
            </a:avLst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580000" y="1447920"/>
            <a:ext cx="3024360" cy="625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ة مجموع الخصوم إلى    حقوق الملكي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11280" y="907920"/>
            <a:ext cx="4038480" cy="17290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 rtl="1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إجمالي الخصوم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حقوق الملكية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79280" y="3429000"/>
            <a:ext cx="8713800" cy="0"/>
          </a:xfrm>
          <a:prstGeom prst="line">
            <a:avLst/>
          </a:prstGeom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1258920" y="1839960"/>
            <a:ext cx="2806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88000" y="1590840"/>
            <a:ext cx="59508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506920" y="4832280"/>
            <a:ext cx="3313080" cy="625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ة الخصوم طويلة الأجل إلى    الخصوم طويلة الأجل مضافاً إليها حقوق الملكي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11280" y="4292640"/>
            <a:ext cx="4038480" cy="1728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خصوم طويلة الأجل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خصوم طويلة الأجل + حقوق الملكية</a:t>
            </a:r>
            <a:r>
              <a:rPr b="0" lang="ar-SA" sz="22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788000" y="4975200"/>
            <a:ext cx="59508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1258920" y="5195880"/>
            <a:ext cx="2806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867280" y="3078000"/>
            <a:ext cx="2665440" cy="673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50000">
                <a:srgbClr val="ccccff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 القدرة على سداد الديون طويلة الأجل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859280" y="260280"/>
            <a:ext cx="397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خامس: </a:t>
            </a:r>
            <a:r>
              <a:rPr b="1" lang="ar-SA" sz="1800" spc="-1" strike="noStrike">
                <a:solidFill>
                  <a:srgbClr val="660033"/>
                </a:solidFill>
                <a:latin typeface="Times New Roman"/>
                <a:cs typeface="Andalus"/>
              </a:rPr>
              <a:t>النسب المالية شائعة الاستخدا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4846D-BFF1-48BF-9E7D-F1623B8CA398}" type="slidenum">
              <a:t>12</a:t>
            </a:fld>
          </a:p>
        </p:txBody>
      </p:sp>
    </p:spTree>
  </p:cSld>
  <p:transition>
    <p:random/>
  </p:transition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e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584280" y="1838520"/>
            <a:ext cx="1776240" cy="825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cccff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rmAutofit/>
          </a:bodyPr>
          <a:p>
            <a:pPr marL="343080" indent="-343080" algn="ct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 الربحي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6738840" y="1838520"/>
            <a:ext cx="1745640" cy="825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cccff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rmAutofit fontScale="92000"/>
          </a:bodyPr>
          <a:p>
            <a:pPr marL="315360" indent="-315360" algn="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 السيولة (سداد الالتزامات قصيرة الأجل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732720" y="3260880"/>
            <a:ext cx="1847880" cy="31464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 algn="just" rtl="1">
              <a:spcBef>
                <a:spcPts val="4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 rtl="1">
              <a:spcBef>
                <a:spcPts val="4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 rtl="1">
              <a:spcBef>
                <a:spcPts val="4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ة التداو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 rtl="1">
              <a:spcBef>
                <a:spcPts val="4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ة السيولة السريع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 rtl="1">
              <a:spcBef>
                <a:spcPts val="4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ة السيولة النقدي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 rtl="1">
              <a:spcBef>
                <a:spcPts val="4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95280" y="3257640"/>
            <a:ext cx="2016000" cy="3124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 algn="r" rtl="1">
              <a:spcBef>
                <a:spcPts val="4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spcBef>
                <a:spcPts val="4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عائد على المبيعات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spcBef>
                <a:spcPts val="4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عائد على إجمالي الأصو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spcBef>
                <a:spcPts val="4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عائد على حقوق الملكي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spcBef>
                <a:spcPts val="4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ربحية السهم العادي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608360" y="1793880"/>
            <a:ext cx="1764000" cy="914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50000">
                <a:srgbClr val="ccccff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 القدرة على الوفاء بالديون (طويلة الأجل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668840" y="3260880"/>
            <a:ext cx="1847880" cy="3146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 algn="just" rtl="1">
              <a:spcBef>
                <a:spcPts val="4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ة الديون الى مجموع الاصو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 rtl="1">
              <a:spcBef>
                <a:spcPts val="4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ة الديون إلى حقوق الملكي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 rtl="1">
              <a:spcBef>
                <a:spcPts val="4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عدل تغطية الفائد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 rtl="1">
              <a:spcBef>
                <a:spcPts val="4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عدل تغطية الاعباء الثابت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39640" y="692280"/>
            <a:ext cx="7848720" cy="79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50000">
                <a:srgbClr val="ccff99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نسب المالية الرئيس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476360" y="2708280"/>
            <a:ext cx="142920" cy="433440"/>
          </a:xfrm>
          <a:prstGeom prst="downArrow">
            <a:avLst>
              <a:gd name="adj1" fmla="val 50000"/>
              <a:gd name="adj2" fmla="val 7581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87280" y="2768760"/>
            <a:ext cx="503280" cy="431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808080"/>
          </a:solid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381800" y="2768760"/>
            <a:ext cx="503280" cy="431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808080"/>
          </a:solid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76720" y="2797200"/>
            <a:ext cx="503280" cy="431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808080"/>
          </a:solid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27280" y="1811160"/>
            <a:ext cx="1763640" cy="914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50000">
                <a:srgbClr val="ccccff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 الكفاء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292720" y="2781360"/>
            <a:ext cx="503280" cy="431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808080"/>
          </a:solid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579760" y="3259080"/>
            <a:ext cx="1847880" cy="31464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 algn="just" rtl="1">
              <a:spcBef>
                <a:spcPts val="4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 rtl="1">
              <a:spcBef>
                <a:spcPts val="4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 rtl="1">
              <a:spcBef>
                <a:spcPts val="4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عدل دوران المدينين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 rtl="1">
              <a:spcBef>
                <a:spcPts val="4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عدل دوران المخزون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 rtl="1">
              <a:spcBef>
                <a:spcPts val="4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عدل دوران الأصول الثابت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 rtl="1">
              <a:spcBef>
                <a:spcPts val="4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791320" y="645336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859280" y="182520"/>
            <a:ext cx="397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خامس: </a:t>
            </a:r>
            <a:r>
              <a:rPr b="1" lang="ar-SA" sz="1800" spc="-1" strike="noStrike">
                <a:solidFill>
                  <a:srgbClr val="660033"/>
                </a:solidFill>
                <a:latin typeface="Times New Roman"/>
                <a:cs typeface="Andalus"/>
              </a:rPr>
              <a:t>النسب المالية شائعة الاستخدا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8A452-3E14-4003-9EE1-691064F6987F}" type="slidenum">
              <a:t>2</a:t>
            </a:fld>
          </a:p>
        </p:txBody>
      </p:sp>
    </p:spTree>
  </p:cSld>
  <p:transition>
    <p:random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e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7020000" y="2133720"/>
            <a:ext cx="358560" cy="2663640"/>
          </a:xfrm>
          <a:prstGeom prst="upDownArrow">
            <a:avLst>
              <a:gd name="adj1" fmla="val 50000"/>
              <a:gd name="adj2" fmla="val 147886"/>
            </a:avLst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5899320" y="1477800"/>
            <a:ext cx="2676240" cy="564840"/>
          </a:xfrm>
          <a:prstGeom prst="rect">
            <a:avLst/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ة التداول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684360" y="907560"/>
            <a:ext cx="4038480" cy="17290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indent="0" algn="ctr" rtl="1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أصول المتداول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 rtl="1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خصوم المتداول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 rtl="1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79280" y="3429000"/>
            <a:ext cx="8713800" cy="0"/>
          </a:xfrm>
          <a:prstGeom prst="line">
            <a:avLst/>
          </a:prstGeom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1547280" y="1773360"/>
            <a:ext cx="2374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005440" y="1590840"/>
            <a:ext cx="59544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869080" y="4832280"/>
            <a:ext cx="2663640" cy="625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ة السيولة السريعة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84360" y="4292640"/>
            <a:ext cx="4038480" cy="1728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 rtl="1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أصول المتداولة - المخزو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خصوم المتداول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1262160" y="5157720"/>
            <a:ext cx="2806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005440" y="4975200"/>
            <a:ext cx="59544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904000" y="3043080"/>
            <a:ext cx="2700360" cy="779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50000">
                <a:srgbClr val="ccccff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 السيول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859280" y="260280"/>
            <a:ext cx="397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خامس: </a:t>
            </a:r>
            <a:r>
              <a:rPr b="1" lang="ar-SA" sz="1800" spc="-1" strike="noStrike">
                <a:solidFill>
                  <a:srgbClr val="660033"/>
                </a:solidFill>
                <a:latin typeface="Times New Roman"/>
                <a:cs typeface="Andalus"/>
              </a:rPr>
              <a:t>النسب المالية شائعة الاستخدا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0DAAA-BD14-4F79-A519-5FB55B6E06FF}" type="slidenum">
              <a:t>3</a:t>
            </a:fld>
          </a:p>
        </p:txBody>
      </p:sp>
    </p:spTree>
  </p:cSld>
  <p:transition>
    <p:random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e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7093080" y="2133720"/>
            <a:ext cx="358560" cy="2663640"/>
          </a:xfrm>
          <a:prstGeom prst="upDownArrow">
            <a:avLst>
              <a:gd name="adj1" fmla="val 50000"/>
              <a:gd name="adj2" fmla="val 147886"/>
            </a:avLst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5899320" y="1477800"/>
            <a:ext cx="2676240" cy="564840"/>
          </a:xfrm>
          <a:prstGeom prst="rect">
            <a:avLst/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ة السيولة النقد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684360" y="907560"/>
            <a:ext cx="4038480" cy="17290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80000"/>
              </a:lnSpc>
              <a:spcBef>
                <a:spcPts val="201"/>
              </a:spcBef>
              <a:buNone/>
              <a:tabLst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 rtl="1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قدية في الصندوق والبنوك + استثمارات في اوراق مالية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 rtl="1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 rtl="1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خصوم المتداولة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 rtl="1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79280" y="3429000"/>
            <a:ext cx="8713800" cy="0"/>
          </a:xfrm>
          <a:prstGeom prst="line">
            <a:avLst/>
          </a:prstGeom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1406520" y="1989000"/>
            <a:ext cx="2806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005440" y="1590840"/>
            <a:ext cx="59544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869080" y="4832280"/>
            <a:ext cx="2663640" cy="625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رأس المال العامل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4360" y="4292640"/>
            <a:ext cx="4038480" cy="1728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أصول المتداولة – الخصوم المتداولة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005440" y="4975200"/>
            <a:ext cx="59544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904000" y="3043080"/>
            <a:ext cx="2700360" cy="779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50000">
                <a:srgbClr val="ccccff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 السيول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859280" y="260280"/>
            <a:ext cx="397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خامس: </a:t>
            </a:r>
            <a:r>
              <a:rPr b="1" lang="ar-SA" sz="1800" spc="-1" strike="noStrike">
                <a:solidFill>
                  <a:srgbClr val="660033"/>
                </a:solidFill>
                <a:latin typeface="Times New Roman"/>
                <a:cs typeface="Andalus"/>
              </a:rPr>
              <a:t>النسب المالية شائعة الاستخدا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27462-162C-4920-94CB-3DAA187F0D02}" type="slidenum">
              <a:t>4</a:t>
            </a:fld>
          </a:p>
        </p:txBody>
      </p:sp>
    </p:spTree>
  </p:cSld>
  <p:transition>
    <p:random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e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7093080" y="2133720"/>
            <a:ext cx="358560" cy="2663640"/>
          </a:xfrm>
          <a:prstGeom prst="upDownArrow">
            <a:avLst>
              <a:gd name="adj1" fmla="val 50000"/>
              <a:gd name="adj2" fmla="val 147886"/>
            </a:avLst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869080" y="1447920"/>
            <a:ext cx="2736720" cy="625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عدل دوران المديني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84360" y="907920"/>
            <a:ext cx="4038480" cy="17290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 rtl="1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صافي المبيعات الآجلة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توسط رصيد المديني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79280" y="3429000"/>
            <a:ext cx="8713800" cy="0"/>
          </a:xfrm>
          <a:prstGeom prst="line">
            <a:avLst/>
          </a:prstGeom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1406520" y="1916280"/>
            <a:ext cx="2806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005440" y="1590840"/>
            <a:ext cx="59544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869080" y="4832280"/>
            <a:ext cx="2663640" cy="625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توسط فترة التحصيل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84360" y="4292640"/>
            <a:ext cx="4038480" cy="1728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36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عدل دوران المديني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005440" y="4975200"/>
            <a:ext cx="59544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77440" y="5157720"/>
            <a:ext cx="2806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867280" y="3078000"/>
            <a:ext cx="2665440" cy="673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50000">
                <a:srgbClr val="ccccff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 الكفاء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859280" y="260280"/>
            <a:ext cx="397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خامس: </a:t>
            </a:r>
            <a:r>
              <a:rPr b="1" lang="ar-SA" sz="1800" spc="-1" strike="noStrike">
                <a:solidFill>
                  <a:srgbClr val="660033"/>
                </a:solidFill>
                <a:latin typeface="Times New Roman"/>
                <a:cs typeface="Andalus"/>
              </a:rPr>
              <a:t>النسب المالية شائعة الاستخدا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DA83E-AF1D-4F5B-9575-4EA246E4A814}" type="slidenum">
              <a:t>5</a:t>
            </a:fld>
          </a:p>
        </p:txBody>
      </p:sp>
    </p:spTree>
  </p:cSld>
  <p:transition>
    <p:random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e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6973920" y="2133720"/>
            <a:ext cx="358920" cy="2663640"/>
          </a:xfrm>
          <a:prstGeom prst="upDownArrow">
            <a:avLst>
              <a:gd name="adj1" fmla="val 50000"/>
              <a:gd name="adj2" fmla="val 147738"/>
            </a:avLst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724360" y="1447920"/>
            <a:ext cx="2737080" cy="625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عدل دوران المخزو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39640" y="907920"/>
            <a:ext cx="4038840" cy="17290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 rtl="1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تكلفة البضاعة المباعة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توسط رصيد المخزو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79280" y="3429000"/>
            <a:ext cx="8713800" cy="0"/>
          </a:xfrm>
          <a:prstGeom prst="line">
            <a:avLst/>
          </a:prstGeom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1186920" y="1916280"/>
            <a:ext cx="2806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861080" y="1590840"/>
            <a:ext cx="59508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724360" y="4832280"/>
            <a:ext cx="2808360" cy="625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توسط فترة التخزي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9640" y="4292640"/>
            <a:ext cx="4038840" cy="1728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36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عدل دوران المخزو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861080" y="4975200"/>
            <a:ext cx="59508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1186920" y="5157720"/>
            <a:ext cx="2806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867280" y="3078000"/>
            <a:ext cx="2665440" cy="673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50000">
                <a:srgbClr val="ccccff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 الكفاء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859280" y="260280"/>
            <a:ext cx="397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خامس: </a:t>
            </a:r>
            <a:r>
              <a:rPr b="1" lang="ar-SA" sz="1800" spc="-1" strike="noStrike">
                <a:solidFill>
                  <a:srgbClr val="660033"/>
                </a:solidFill>
                <a:latin typeface="Times New Roman"/>
                <a:cs typeface="Andalus"/>
              </a:rPr>
              <a:t>النسب المالية شائعة الاستخدا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15D54-AE6C-4885-AE4C-CBD1C7518B4E}" type="slidenum">
              <a:t>6</a:t>
            </a:fld>
          </a:p>
        </p:txBody>
      </p:sp>
    </p:spTree>
  </p:cSld>
  <p:transition>
    <p:random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e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6973920" y="2133720"/>
            <a:ext cx="358920" cy="2663640"/>
          </a:xfrm>
          <a:prstGeom prst="upDownArrow">
            <a:avLst>
              <a:gd name="adj1" fmla="val 50000"/>
              <a:gd name="adj2" fmla="val 147738"/>
            </a:avLst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580000" y="1447920"/>
            <a:ext cx="3024360" cy="625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عدل دوران الأصول المتداول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11280" y="907920"/>
            <a:ext cx="4038480" cy="17290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 rtl="1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صافي المبيعات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إجمالي الأصول المتداولة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06200" y="3429000"/>
            <a:ext cx="8713800" cy="0"/>
          </a:xfrm>
          <a:prstGeom prst="line">
            <a:avLst/>
          </a:prstGeom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1258920" y="1916280"/>
            <a:ext cx="2806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88000" y="1590840"/>
            <a:ext cx="59508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506920" y="4832280"/>
            <a:ext cx="3097440" cy="625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عدل دوران رأس المال العامل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11280" y="4292640"/>
            <a:ext cx="4038480" cy="1728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صافي المبيعات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توسط رأس المال العامل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788000" y="4975200"/>
            <a:ext cx="59508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1258920" y="5183280"/>
            <a:ext cx="2806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867280" y="3078000"/>
            <a:ext cx="2665440" cy="673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50000">
                <a:srgbClr val="ccccff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 الكفاء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859280" y="260280"/>
            <a:ext cx="397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خامس: </a:t>
            </a:r>
            <a:r>
              <a:rPr b="1" lang="ar-SA" sz="1800" spc="-1" strike="noStrike">
                <a:solidFill>
                  <a:srgbClr val="660033"/>
                </a:solidFill>
                <a:latin typeface="Times New Roman"/>
                <a:cs typeface="Andalus"/>
              </a:rPr>
              <a:t>النسب المالية شائعة الاستخدا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62275-013D-4921-83AC-F22547C829FE}" type="slidenum">
              <a:t>7</a:t>
            </a:fld>
          </a:p>
        </p:txBody>
      </p:sp>
    </p:spTree>
  </p:cSld>
  <p:transition>
    <p:random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e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973920" y="2133720"/>
            <a:ext cx="358920" cy="2663640"/>
          </a:xfrm>
          <a:prstGeom prst="upDownArrow">
            <a:avLst>
              <a:gd name="adj1" fmla="val 50000"/>
              <a:gd name="adj2" fmla="val 147738"/>
            </a:avLst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580000" y="1447920"/>
            <a:ext cx="3024360" cy="625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عدل العائد على المبيعا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11280" y="907920"/>
            <a:ext cx="4038480" cy="17290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 rtl="1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صافي الربح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صافي المبيعات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79280" y="3429000"/>
            <a:ext cx="8713800" cy="0"/>
          </a:xfrm>
          <a:prstGeom prst="line">
            <a:avLst/>
          </a:prstGeom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1258920" y="1839960"/>
            <a:ext cx="2806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788000" y="1590840"/>
            <a:ext cx="59508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506920" y="4832280"/>
            <a:ext cx="3097440" cy="625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عدل العائد على إجمالي الأصول (إجمالي الاستثمار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1280" y="4292640"/>
            <a:ext cx="4038480" cy="1728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صافي الربح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توسط إجمالي الأصول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788000" y="4975200"/>
            <a:ext cx="59508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1258920" y="5195880"/>
            <a:ext cx="2806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867280" y="3078000"/>
            <a:ext cx="2665440" cy="673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50000">
                <a:srgbClr val="ccccff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 الربح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859280" y="260280"/>
            <a:ext cx="397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خامس: </a:t>
            </a:r>
            <a:r>
              <a:rPr b="1" lang="ar-SA" sz="1800" spc="-1" strike="noStrike">
                <a:solidFill>
                  <a:srgbClr val="660033"/>
                </a:solidFill>
                <a:latin typeface="Times New Roman"/>
                <a:cs typeface="Andalus"/>
              </a:rPr>
              <a:t>النسب المالية شائعة الاستخدا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F5B13-4545-4166-BCC9-973A5D89983B}" type="slidenum">
              <a:t>8</a:t>
            </a:fld>
          </a:p>
        </p:txBody>
      </p:sp>
    </p:spTree>
  </p:cSld>
  <p:transition>
    <p:random/>
  </p:transition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e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6973920" y="2133720"/>
            <a:ext cx="358920" cy="2663640"/>
          </a:xfrm>
          <a:prstGeom prst="upDownArrow">
            <a:avLst>
              <a:gd name="adj1" fmla="val 50000"/>
              <a:gd name="adj2" fmla="val 147738"/>
            </a:avLst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580000" y="1447920"/>
            <a:ext cx="3024360" cy="625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عدل العائد من النشاط الرئيس إلى صافي المبيعات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11280" y="907920"/>
            <a:ext cx="4038480" cy="17290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algn="r" rtl="1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صافي الدخل من العمليات الرئيسة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صافي المبيعات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79280" y="3429000"/>
            <a:ext cx="8713800" cy="0"/>
          </a:xfrm>
          <a:prstGeom prst="line">
            <a:avLst/>
          </a:prstGeom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1258920" y="1839960"/>
            <a:ext cx="2806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788000" y="1590840"/>
            <a:ext cx="59508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506920" y="4832280"/>
            <a:ext cx="3097440" cy="625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عدل العائد على </a:t>
            </a:r>
            <a:br>
              <a:rPr sz="1800"/>
            </a:b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حقوق الملكي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11280" y="4292640"/>
            <a:ext cx="4038480" cy="1728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صافي الربح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توسط حقوق المساهمي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788000" y="4975200"/>
            <a:ext cx="59508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1258920" y="5195880"/>
            <a:ext cx="2806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867280" y="3078000"/>
            <a:ext cx="2665440" cy="673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50000">
                <a:srgbClr val="ccccff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 الربح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859280" y="260280"/>
            <a:ext cx="397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خامس: </a:t>
            </a:r>
            <a:r>
              <a:rPr b="1" lang="ar-SA" sz="1800" spc="-1" strike="noStrike">
                <a:solidFill>
                  <a:srgbClr val="660033"/>
                </a:solidFill>
                <a:latin typeface="Times New Roman"/>
                <a:cs typeface="Andalus"/>
              </a:rPr>
              <a:t>النسب المالية شائعة الاستخدا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D7705-AF4C-4CB5-83AD-70AE89A6B326}" type="slidenum">
              <a:t>9</a:t>
            </a:fld>
          </a:p>
        </p:txBody>
      </p:sp>
    </p:spTree>
  </p:cSld>
  <p:transition>
    <p:random/>
  </p:transition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29T08:19:27Z</dcterms:created>
  <dc:creator>**</dc:creator>
  <dc:description/>
  <dc:language>en-US</dc:language>
  <cp:lastModifiedBy>****</cp:lastModifiedBy>
  <dcterms:modified xsi:type="dcterms:W3CDTF">2003-12-07T23:54:56Z</dcterms:modified>
  <cp:revision>23</cp:revision>
  <dc:subject/>
  <dc:title>المؤشرات المالية</dc:title>
</cp:coreProperties>
</file>